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9C7-97F7-41DD-88C5-CB715454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7BA-C73B-4360-A3CC-277D6E38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D93-4EAB-43CC-8A1B-3E1F1262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B8B-937C-477F-A6B4-7D187A89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1A8-186C-4733-A9FD-1F447B5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88F-AD84-4CCD-BE93-12592798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ED7-3293-48C5-8CFC-E81F9953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844-5522-4463-9869-5D13DF50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658-E806-490A-9B6E-82BB9989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BDA-5396-4263-909C-28BC78BA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0E6-C376-4B58-94E2-2C51CF3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0EB-3CF9-43A8-81AA-6228EBEC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324-09DC-4759-8BC4-806CFA34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SZYKÓW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podstawowych umiejętności techn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Podstawowe zadania przedstawianego testu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awdzenie poziomu opanowania umiejętności technicznych z zakresu koszykówk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trola postępów w nabywaniu umiejętności technicznych z zakresu koszykówk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za umiejętności technicznych z zakresu koszyków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niższy test może być wykorzystywany zarówno na lekcjach wychowania fizycznego w zwykłych szkołach jak również przy naborze uczniów do klas sportowych (o profilu koszykarskim)  lub też w klubach sport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letą tego testu jest jego prostota, łatwość w przeprowadzeniu, możliwość modyfikacji jego elementów, a przede wszystkim czytelność uzyskiwanych wy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st ten ocenia podstawowe umiejętności z zakresu koszykówki : kozłowanie, podania, zatrzymania z piłką, rzuty do kos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st wykonywany jest ciągiem, bez przerw i składa się z następujących elementów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złowanie (ze zmianą ręki kozłującej) slalomem między tyczkam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danie piłki (określonym sposobem) do kolegi i bieg w kierunku piłki,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wyt piłki z jednoczesnym zatrzymaniem (określonym sposobem), przejście do kozłowania do tyczki nr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danie (określonym sposobem) piłki do stojącego pod koszem kolegi – bieg w kierunku kosz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a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wyt podanej piłki i rzut do kosza z biegu (PN – LN, wyrzut piłki z dominującą PR), zbiórka i kozłowan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tyczki nr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b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dobnie  jak 5a, ale rzut z biegu odbywa się w rytmie LN – PN, wyrzut piłki z dominującą LR, zbiórka i kozłowanie do tyczki nr 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a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Ominięcie tyczki i rzut po kozłowaniu (PN – LN, wyrzut piłki z dominującą PR), zbiórka i kozłowanie do tyczki nr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b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Podobnie  jak 5a, ale rzut po kozłowaniu odbywa się w rytmie LN – PN, wyrzut piłki z dominującą L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600200"/>
            <a:ext cx="0" cy="4495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666880"/>
            <a:ext cx="205740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7200" y="4724280"/>
            <a:ext cx="20574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514600" y="30481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4864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581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86200"/>
            <a:ext cx="15228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1722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840" y="1751760"/>
            <a:ext cx="289512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480" y="1600200"/>
            <a:ext cx="2742480" cy="47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2743200"/>
            <a:ext cx="152280" cy="2286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1752480"/>
            <a:ext cx="152280" cy="2286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5181480"/>
            <a:ext cx="152280" cy="2286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3886200"/>
            <a:ext cx="152280" cy="2286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70600" y="1792440"/>
            <a:ext cx="1655640" cy="4443120"/>
          </a:xfrm>
          <a:custGeom>
            <a:avLst/>
            <a:gdLst/>
            <a:ahLst/>
            <a:rect l="l" t="t" r="r" b="b"/>
            <a:pathLst>
              <a:path w="1043" h="2799">
                <a:moveTo>
                  <a:pt x="386" y="0"/>
                </a:moveTo>
                <a:cubicBezTo>
                  <a:pt x="398" y="4"/>
                  <a:pt x="414" y="1"/>
                  <a:pt x="421" y="11"/>
                </a:cubicBezTo>
                <a:cubicBezTo>
                  <a:pt x="435" y="31"/>
                  <a:pt x="444" y="81"/>
                  <a:pt x="444" y="81"/>
                </a:cubicBezTo>
                <a:cubicBezTo>
                  <a:pt x="448" y="115"/>
                  <a:pt x="450" y="150"/>
                  <a:pt x="455" y="184"/>
                </a:cubicBezTo>
                <a:cubicBezTo>
                  <a:pt x="458" y="207"/>
                  <a:pt x="457" y="232"/>
                  <a:pt x="467" y="253"/>
                </a:cubicBezTo>
                <a:cubicBezTo>
                  <a:pt x="474" y="267"/>
                  <a:pt x="522" y="286"/>
                  <a:pt x="536" y="288"/>
                </a:cubicBezTo>
                <a:cubicBezTo>
                  <a:pt x="589" y="294"/>
                  <a:pt x="643" y="295"/>
                  <a:pt x="697" y="299"/>
                </a:cubicBezTo>
                <a:cubicBezTo>
                  <a:pt x="801" y="326"/>
                  <a:pt x="759" y="313"/>
                  <a:pt x="824" y="334"/>
                </a:cubicBezTo>
                <a:cubicBezTo>
                  <a:pt x="881" y="372"/>
                  <a:pt x="913" y="393"/>
                  <a:pt x="951" y="449"/>
                </a:cubicBezTo>
                <a:cubicBezTo>
                  <a:pt x="964" y="598"/>
                  <a:pt x="991" y="692"/>
                  <a:pt x="962" y="852"/>
                </a:cubicBezTo>
                <a:cubicBezTo>
                  <a:pt x="960" y="865"/>
                  <a:pt x="938" y="866"/>
                  <a:pt x="928" y="875"/>
                </a:cubicBezTo>
                <a:cubicBezTo>
                  <a:pt x="907" y="893"/>
                  <a:pt x="889" y="914"/>
                  <a:pt x="870" y="933"/>
                </a:cubicBezTo>
                <a:cubicBezTo>
                  <a:pt x="860" y="943"/>
                  <a:pt x="861" y="965"/>
                  <a:pt x="847" y="968"/>
                </a:cubicBezTo>
                <a:cubicBezTo>
                  <a:pt x="787" y="981"/>
                  <a:pt x="724" y="975"/>
                  <a:pt x="663" y="979"/>
                </a:cubicBezTo>
                <a:cubicBezTo>
                  <a:pt x="610" y="1058"/>
                  <a:pt x="643" y="1039"/>
                  <a:pt x="582" y="1060"/>
                </a:cubicBezTo>
                <a:cubicBezTo>
                  <a:pt x="559" y="1094"/>
                  <a:pt x="547" y="1129"/>
                  <a:pt x="524" y="1163"/>
                </a:cubicBezTo>
                <a:cubicBezTo>
                  <a:pt x="482" y="1297"/>
                  <a:pt x="492" y="1446"/>
                  <a:pt x="536" y="1578"/>
                </a:cubicBezTo>
                <a:cubicBezTo>
                  <a:pt x="537" y="1582"/>
                  <a:pt x="556" y="1643"/>
                  <a:pt x="559" y="1647"/>
                </a:cubicBezTo>
                <a:cubicBezTo>
                  <a:pt x="588" y="1682"/>
                  <a:pt x="632" y="1704"/>
                  <a:pt x="674" y="1716"/>
                </a:cubicBezTo>
                <a:cubicBezTo>
                  <a:pt x="697" y="1723"/>
                  <a:pt x="720" y="1731"/>
                  <a:pt x="743" y="1739"/>
                </a:cubicBezTo>
                <a:cubicBezTo>
                  <a:pt x="755" y="1743"/>
                  <a:pt x="778" y="1751"/>
                  <a:pt x="778" y="1751"/>
                </a:cubicBezTo>
                <a:cubicBezTo>
                  <a:pt x="911" y="1888"/>
                  <a:pt x="722" y="1698"/>
                  <a:pt x="847" y="1809"/>
                </a:cubicBezTo>
                <a:cubicBezTo>
                  <a:pt x="898" y="1854"/>
                  <a:pt x="928" y="1901"/>
                  <a:pt x="974" y="1947"/>
                </a:cubicBezTo>
                <a:cubicBezTo>
                  <a:pt x="985" y="1993"/>
                  <a:pt x="994" y="2023"/>
                  <a:pt x="1020" y="2062"/>
                </a:cubicBezTo>
                <a:cubicBezTo>
                  <a:pt x="1026" y="2101"/>
                  <a:pt x="1043" y="2138"/>
                  <a:pt x="1043" y="2177"/>
                </a:cubicBezTo>
                <a:cubicBezTo>
                  <a:pt x="1043" y="2311"/>
                  <a:pt x="1038" y="2446"/>
                  <a:pt x="1031" y="2580"/>
                </a:cubicBezTo>
                <a:cubicBezTo>
                  <a:pt x="1028" y="2628"/>
                  <a:pt x="980" y="2655"/>
                  <a:pt x="951" y="2684"/>
                </a:cubicBezTo>
                <a:cubicBezTo>
                  <a:pt x="859" y="2776"/>
                  <a:pt x="729" y="2788"/>
                  <a:pt x="605" y="2799"/>
                </a:cubicBezTo>
                <a:cubicBezTo>
                  <a:pt x="490" y="2795"/>
                  <a:pt x="374" y="2795"/>
                  <a:pt x="259" y="2788"/>
                </a:cubicBezTo>
                <a:cubicBezTo>
                  <a:pt x="219" y="2786"/>
                  <a:pt x="144" y="2753"/>
                  <a:pt x="144" y="2753"/>
                </a:cubicBezTo>
                <a:cubicBezTo>
                  <a:pt x="123" y="2732"/>
                  <a:pt x="95" y="2718"/>
                  <a:pt x="75" y="2696"/>
                </a:cubicBezTo>
                <a:cubicBezTo>
                  <a:pt x="57" y="2675"/>
                  <a:pt x="29" y="2627"/>
                  <a:pt x="29" y="2627"/>
                </a:cubicBezTo>
                <a:cubicBezTo>
                  <a:pt x="33" y="2535"/>
                  <a:pt x="48" y="2442"/>
                  <a:pt x="41" y="2350"/>
                </a:cubicBezTo>
                <a:cubicBezTo>
                  <a:pt x="40" y="2336"/>
                  <a:pt x="16" y="2336"/>
                  <a:pt x="6" y="2327"/>
                </a:cubicBezTo>
                <a:cubicBezTo>
                  <a:pt x="0" y="2321"/>
                  <a:pt x="21" y="2335"/>
                  <a:pt x="29" y="233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019920" y="16761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2057400"/>
            <a:ext cx="304920" cy="304920"/>
          </a:xfrm>
          <a:prstGeom prst="wedgeRectCallout">
            <a:avLst>
              <a:gd name="adj1" fmla="val -6250"/>
              <a:gd name="adj2" fmla="val 190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4724280"/>
            <a:ext cx="304560" cy="381240"/>
          </a:xfrm>
          <a:prstGeom prst="wedgeRectCallout">
            <a:avLst>
              <a:gd name="adj1" fmla="val -31250"/>
              <a:gd name="adj2" fmla="val 142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105520" y="1752480"/>
            <a:ext cx="8380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105520" y="3428640"/>
            <a:ext cx="838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2819520"/>
            <a:ext cx="304920" cy="304560"/>
          </a:xfrm>
          <a:prstGeom prst="wedgeRectCallout">
            <a:avLst>
              <a:gd name="adj1" fmla="val -97916"/>
              <a:gd name="adj2" fmla="val 127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6160" y="1947960"/>
            <a:ext cx="1924200" cy="1395360"/>
          </a:xfrm>
          <a:custGeom>
            <a:avLst/>
            <a:gdLst/>
            <a:ahLst/>
            <a:rect l="l" t="t" r="r" b="b"/>
            <a:pathLst>
              <a:path w="1212" h="879">
                <a:moveTo>
                  <a:pt x="1212" y="879"/>
                </a:moveTo>
                <a:cubicBezTo>
                  <a:pt x="1205" y="851"/>
                  <a:pt x="1194" y="817"/>
                  <a:pt x="1170" y="801"/>
                </a:cubicBezTo>
                <a:cubicBezTo>
                  <a:pt x="1139" y="739"/>
                  <a:pt x="1032" y="680"/>
                  <a:pt x="966" y="663"/>
                </a:cubicBezTo>
                <a:cubicBezTo>
                  <a:pt x="928" y="625"/>
                  <a:pt x="857" y="614"/>
                  <a:pt x="822" y="567"/>
                </a:cubicBezTo>
                <a:cubicBezTo>
                  <a:pt x="793" y="528"/>
                  <a:pt x="774" y="475"/>
                  <a:pt x="732" y="447"/>
                </a:cubicBezTo>
                <a:cubicBezTo>
                  <a:pt x="714" y="411"/>
                  <a:pt x="687" y="388"/>
                  <a:pt x="648" y="375"/>
                </a:cubicBezTo>
                <a:cubicBezTo>
                  <a:pt x="591" y="318"/>
                  <a:pt x="664" y="386"/>
                  <a:pt x="612" y="351"/>
                </a:cubicBezTo>
                <a:cubicBezTo>
                  <a:pt x="599" y="342"/>
                  <a:pt x="589" y="330"/>
                  <a:pt x="576" y="321"/>
                </a:cubicBezTo>
                <a:cubicBezTo>
                  <a:pt x="572" y="315"/>
                  <a:pt x="569" y="308"/>
                  <a:pt x="564" y="303"/>
                </a:cubicBezTo>
                <a:cubicBezTo>
                  <a:pt x="553" y="294"/>
                  <a:pt x="528" y="279"/>
                  <a:pt x="528" y="279"/>
                </a:cubicBezTo>
                <a:cubicBezTo>
                  <a:pt x="526" y="273"/>
                  <a:pt x="526" y="265"/>
                  <a:pt x="522" y="261"/>
                </a:cubicBezTo>
                <a:cubicBezTo>
                  <a:pt x="512" y="251"/>
                  <a:pt x="498" y="245"/>
                  <a:pt x="486" y="237"/>
                </a:cubicBezTo>
                <a:cubicBezTo>
                  <a:pt x="461" y="220"/>
                  <a:pt x="444" y="199"/>
                  <a:pt x="414" y="189"/>
                </a:cubicBezTo>
                <a:cubicBezTo>
                  <a:pt x="408" y="183"/>
                  <a:pt x="403" y="176"/>
                  <a:pt x="396" y="171"/>
                </a:cubicBezTo>
                <a:cubicBezTo>
                  <a:pt x="391" y="167"/>
                  <a:pt x="383" y="169"/>
                  <a:pt x="378" y="165"/>
                </a:cubicBezTo>
                <a:cubicBezTo>
                  <a:pt x="372" y="160"/>
                  <a:pt x="372" y="152"/>
                  <a:pt x="366" y="147"/>
                </a:cubicBezTo>
                <a:cubicBezTo>
                  <a:pt x="331" y="118"/>
                  <a:pt x="281" y="93"/>
                  <a:pt x="240" y="75"/>
                </a:cubicBezTo>
                <a:cubicBezTo>
                  <a:pt x="220" y="66"/>
                  <a:pt x="203" y="53"/>
                  <a:pt x="180" y="51"/>
                </a:cubicBezTo>
                <a:cubicBezTo>
                  <a:pt x="138" y="47"/>
                  <a:pt x="96" y="43"/>
                  <a:pt x="54" y="39"/>
                </a:cubicBezTo>
                <a:cubicBezTo>
                  <a:pt x="25" y="20"/>
                  <a:pt x="32" y="0"/>
                  <a:pt x="0" y="21"/>
                </a:cubicBezTo>
                <a:cubicBezTo>
                  <a:pt x="20" y="34"/>
                  <a:pt x="11" y="33"/>
                  <a:pt x="24" y="3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33160" y="1981080"/>
            <a:ext cx="2514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8954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99840" y="2057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14040" y="31240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209680"/>
            <a:ext cx="152280" cy="2286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5105520"/>
            <a:ext cx="152280" cy="2286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95320" y="3924360"/>
            <a:ext cx="2859120" cy="1925640"/>
          </a:xfrm>
          <a:custGeom>
            <a:avLst/>
            <a:gdLst/>
            <a:ahLst/>
            <a:rect l="l" t="t" r="r" b="b"/>
            <a:pathLst>
              <a:path w="1801" h="1213">
                <a:moveTo>
                  <a:pt x="0" y="0"/>
                </a:moveTo>
                <a:cubicBezTo>
                  <a:pt x="84" y="8"/>
                  <a:pt x="161" y="35"/>
                  <a:pt x="246" y="42"/>
                </a:cubicBezTo>
                <a:cubicBezTo>
                  <a:pt x="291" y="64"/>
                  <a:pt x="347" y="83"/>
                  <a:pt x="396" y="90"/>
                </a:cubicBezTo>
                <a:cubicBezTo>
                  <a:pt x="529" y="170"/>
                  <a:pt x="959" y="132"/>
                  <a:pt x="978" y="132"/>
                </a:cubicBezTo>
                <a:cubicBezTo>
                  <a:pt x="1056" y="151"/>
                  <a:pt x="1128" y="179"/>
                  <a:pt x="1206" y="198"/>
                </a:cubicBezTo>
                <a:cubicBezTo>
                  <a:pt x="1234" y="216"/>
                  <a:pt x="1257" y="223"/>
                  <a:pt x="1290" y="228"/>
                </a:cubicBezTo>
                <a:cubicBezTo>
                  <a:pt x="1314" y="238"/>
                  <a:pt x="1337" y="246"/>
                  <a:pt x="1362" y="252"/>
                </a:cubicBezTo>
                <a:cubicBezTo>
                  <a:pt x="1401" y="278"/>
                  <a:pt x="1451" y="276"/>
                  <a:pt x="1494" y="294"/>
                </a:cubicBezTo>
                <a:cubicBezTo>
                  <a:pt x="1525" y="307"/>
                  <a:pt x="1555" y="326"/>
                  <a:pt x="1584" y="342"/>
                </a:cubicBezTo>
                <a:cubicBezTo>
                  <a:pt x="1607" y="355"/>
                  <a:pt x="1628" y="371"/>
                  <a:pt x="1650" y="384"/>
                </a:cubicBezTo>
                <a:cubicBezTo>
                  <a:pt x="1662" y="391"/>
                  <a:pt x="1674" y="400"/>
                  <a:pt x="1686" y="408"/>
                </a:cubicBezTo>
                <a:cubicBezTo>
                  <a:pt x="1692" y="412"/>
                  <a:pt x="1704" y="420"/>
                  <a:pt x="1704" y="420"/>
                </a:cubicBezTo>
                <a:cubicBezTo>
                  <a:pt x="1720" y="444"/>
                  <a:pt x="1732" y="472"/>
                  <a:pt x="1752" y="492"/>
                </a:cubicBezTo>
                <a:cubicBezTo>
                  <a:pt x="1754" y="500"/>
                  <a:pt x="1756" y="508"/>
                  <a:pt x="1758" y="516"/>
                </a:cubicBezTo>
                <a:cubicBezTo>
                  <a:pt x="1760" y="522"/>
                  <a:pt x="1762" y="528"/>
                  <a:pt x="1764" y="534"/>
                </a:cubicBezTo>
                <a:cubicBezTo>
                  <a:pt x="1768" y="550"/>
                  <a:pt x="1776" y="582"/>
                  <a:pt x="1776" y="582"/>
                </a:cubicBezTo>
                <a:cubicBezTo>
                  <a:pt x="1784" y="657"/>
                  <a:pt x="1790" y="727"/>
                  <a:pt x="1794" y="804"/>
                </a:cubicBezTo>
                <a:cubicBezTo>
                  <a:pt x="1792" y="916"/>
                  <a:pt x="1801" y="1029"/>
                  <a:pt x="1788" y="1140"/>
                </a:cubicBezTo>
                <a:cubicBezTo>
                  <a:pt x="1786" y="1155"/>
                  <a:pt x="1698" y="1194"/>
                  <a:pt x="1680" y="1200"/>
                </a:cubicBezTo>
                <a:cubicBezTo>
                  <a:pt x="1668" y="1204"/>
                  <a:pt x="1644" y="1212"/>
                  <a:pt x="1644" y="1212"/>
                </a:cubicBezTo>
                <a:cubicBezTo>
                  <a:pt x="1604" y="1210"/>
                  <a:pt x="1563" y="1213"/>
                  <a:pt x="1524" y="1206"/>
                </a:cubicBezTo>
                <a:cubicBezTo>
                  <a:pt x="1506" y="1203"/>
                  <a:pt x="1492" y="1190"/>
                  <a:pt x="1476" y="1182"/>
                </a:cubicBezTo>
                <a:cubicBezTo>
                  <a:pt x="1463" y="1176"/>
                  <a:pt x="1440" y="1158"/>
                  <a:pt x="1440" y="1158"/>
                </a:cubicBezTo>
                <a:cubicBezTo>
                  <a:pt x="1412" y="1116"/>
                  <a:pt x="1428" y="1130"/>
                  <a:pt x="1398" y="1110"/>
                </a:cubicBezTo>
                <a:cubicBezTo>
                  <a:pt x="1389" y="1097"/>
                  <a:pt x="1368" y="1065"/>
                  <a:pt x="1356" y="1056"/>
                </a:cubicBezTo>
                <a:cubicBezTo>
                  <a:pt x="1348" y="1049"/>
                  <a:pt x="1328" y="1050"/>
                  <a:pt x="1344" y="105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56840" y="5028840"/>
            <a:ext cx="2514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9528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523880" y="50292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838080" y="434304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990720"/>
            <a:ext cx="838080" cy="685800"/>
          </a:xfrm>
          <a:prstGeom prst="wedgeRectCallout">
            <a:avLst>
              <a:gd name="adj1" fmla="val -25000"/>
              <a:gd name="adj2" fmla="val 11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czka n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2514600"/>
            <a:ext cx="380880" cy="304920"/>
          </a:xfrm>
          <a:prstGeom prst="wedgeRectCallout">
            <a:avLst>
              <a:gd name="adj1" fmla="val 5000"/>
              <a:gd name="adj2" fmla="val 121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4114800"/>
            <a:ext cx="381240" cy="304920"/>
          </a:xfrm>
          <a:prstGeom prst="wedgeRectCallout">
            <a:avLst>
              <a:gd name="adj1" fmla="val 2500"/>
              <a:gd name="adj2" fmla="val 136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1371600"/>
            <a:ext cx="15228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743200"/>
            <a:ext cx="15228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876920"/>
            <a:ext cx="15228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886200"/>
            <a:ext cx="838080" cy="685800"/>
          </a:xfrm>
          <a:prstGeom prst="wedgeRectCallout">
            <a:avLst>
              <a:gd name="adj1" fmla="val -25000"/>
              <a:gd name="adj2" fmla="val 11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czka n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1600200"/>
            <a:ext cx="0" cy="4495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666880"/>
            <a:ext cx="205740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" y="4724280"/>
            <a:ext cx="20574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14600" y="30481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4864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581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886200"/>
            <a:ext cx="15228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61722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09840" y="1751760"/>
            <a:ext cx="289512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480" y="1600200"/>
            <a:ext cx="2742480" cy="47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914040" y="31240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209680"/>
            <a:ext cx="152280" cy="2286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5105520"/>
            <a:ext cx="152280" cy="2286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838080" y="434304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1752480"/>
            <a:ext cx="380880" cy="304920"/>
          </a:xfrm>
          <a:prstGeom prst="wedgeRectCallout">
            <a:avLst>
              <a:gd name="adj1" fmla="val 5000"/>
              <a:gd name="adj2" fmla="val 121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724280"/>
            <a:ext cx="381240" cy="304920"/>
          </a:xfrm>
          <a:prstGeom prst="wedgeRectCallout">
            <a:avLst>
              <a:gd name="adj1" fmla="val -37500"/>
              <a:gd name="adj2" fmla="val 136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33480" y="2085840"/>
            <a:ext cx="2658960" cy="1971720"/>
          </a:xfrm>
          <a:custGeom>
            <a:avLst/>
            <a:gdLst/>
            <a:ahLst/>
            <a:rect l="l" t="t" r="r" b="b"/>
            <a:pathLst>
              <a:path w="1674" h="1242">
                <a:moveTo>
                  <a:pt x="0" y="1242"/>
                </a:moveTo>
                <a:cubicBezTo>
                  <a:pt x="28" y="1240"/>
                  <a:pt x="56" y="1241"/>
                  <a:pt x="84" y="1236"/>
                </a:cubicBezTo>
                <a:cubicBezTo>
                  <a:pt x="121" y="1230"/>
                  <a:pt x="155" y="1201"/>
                  <a:pt x="192" y="1194"/>
                </a:cubicBezTo>
                <a:cubicBezTo>
                  <a:pt x="220" y="1175"/>
                  <a:pt x="253" y="1169"/>
                  <a:pt x="282" y="1152"/>
                </a:cubicBezTo>
                <a:cubicBezTo>
                  <a:pt x="299" y="1142"/>
                  <a:pt x="336" y="1128"/>
                  <a:pt x="336" y="1128"/>
                </a:cubicBezTo>
                <a:cubicBezTo>
                  <a:pt x="380" y="1095"/>
                  <a:pt x="339" y="1121"/>
                  <a:pt x="384" y="1104"/>
                </a:cubicBezTo>
                <a:cubicBezTo>
                  <a:pt x="427" y="1088"/>
                  <a:pt x="459" y="1061"/>
                  <a:pt x="504" y="1050"/>
                </a:cubicBezTo>
                <a:cubicBezTo>
                  <a:pt x="522" y="1032"/>
                  <a:pt x="539" y="1030"/>
                  <a:pt x="558" y="1014"/>
                </a:cubicBezTo>
                <a:cubicBezTo>
                  <a:pt x="588" y="989"/>
                  <a:pt x="618" y="969"/>
                  <a:pt x="654" y="954"/>
                </a:cubicBezTo>
                <a:cubicBezTo>
                  <a:pt x="667" y="948"/>
                  <a:pt x="683" y="948"/>
                  <a:pt x="696" y="942"/>
                </a:cubicBezTo>
                <a:cubicBezTo>
                  <a:pt x="721" y="931"/>
                  <a:pt x="736" y="919"/>
                  <a:pt x="762" y="912"/>
                </a:cubicBezTo>
                <a:cubicBezTo>
                  <a:pt x="785" y="897"/>
                  <a:pt x="795" y="883"/>
                  <a:pt x="822" y="876"/>
                </a:cubicBezTo>
                <a:cubicBezTo>
                  <a:pt x="848" y="858"/>
                  <a:pt x="879" y="855"/>
                  <a:pt x="906" y="840"/>
                </a:cubicBezTo>
                <a:cubicBezTo>
                  <a:pt x="933" y="825"/>
                  <a:pt x="942" y="812"/>
                  <a:pt x="972" y="804"/>
                </a:cubicBezTo>
                <a:cubicBezTo>
                  <a:pt x="1000" y="776"/>
                  <a:pt x="1031" y="756"/>
                  <a:pt x="1068" y="744"/>
                </a:cubicBezTo>
                <a:cubicBezTo>
                  <a:pt x="1091" y="721"/>
                  <a:pt x="1120" y="715"/>
                  <a:pt x="1146" y="696"/>
                </a:cubicBezTo>
                <a:cubicBezTo>
                  <a:pt x="1153" y="691"/>
                  <a:pt x="1157" y="683"/>
                  <a:pt x="1164" y="678"/>
                </a:cubicBezTo>
                <a:cubicBezTo>
                  <a:pt x="1193" y="657"/>
                  <a:pt x="1229" y="646"/>
                  <a:pt x="1260" y="630"/>
                </a:cubicBezTo>
                <a:cubicBezTo>
                  <a:pt x="1282" y="619"/>
                  <a:pt x="1291" y="602"/>
                  <a:pt x="1314" y="594"/>
                </a:cubicBezTo>
                <a:cubicBezTo>
                  <a:pt x="1345" y="563"/>
                  <a:pt x="1393" y="512"/>
                  <a:pt x="1434" y="498"/>
                </a:cubicBezTo>
                <a:cubicBezTo>
                  <a:pt x="1460" y="472"/>
                  <a:pt x="1506" y="446"/>
                  <a:pt x="1536" y="426"/>
                </a:cubicBezTo>
                <a:cubicBezTo>
                  <a:pt x="1548" y="418"/>
                  <a:pt x="1572" y="402"/>
                  <a:pt x="1572" y="402"/>
                </a:cubicBezTo>
                <a:cubicBezTo>
                  <a:pt x="1617" y="334"/>
                  <a:pt x="1648" y="281"/>
                  <a:pt x="1674" y="204"/>
                </a:cubicBezTo>
                <a:cubicBezTo>
                  <a:pt x="1653" y="141"/>
                  <a:pt x="1601" y="70"/>
                  <a:pt x="1536" y="48"/>
                </a:cubicBezTo>
                <a:cubicBezTo>
                  <a:pt x="1501" y="22"/>
                  <a:pt x="1453" y="11"/>
                  <a:pt x="1410" y="0"/>
                </a:cubicBezTo>
                <a:cubicBezTo>
                  <a:pt x="1326" y="2"/>
                  <a:pt x="1242" y="3"/>
                  <a:pt x="1158" y="6"/>
                </a:cubicBezTo>
                <a:cubicBezTo>
                  <a:pt x="1150" y="6"/>
                  <a:pt x="1112" y="10"/>
                  <a:pt x="1098" y="18"/>
                </a:cubicBezTo>
                <a:cubicBezTo>
                  <a:pt x="1079" y="29"/>
                  <a:pt x="1044" y="54"/>
                  <a:pt x="1044" y="54"/>
                </a:cubicBezTo>
                <a:cubicBezTo>
                  <a:pt x="997" y="125"/>
                  <a:pt x="902" y="195"/>
                  <a:pt x="822" y="222"/>
                </a:cubicBezTo>
                <a:cubicBezTo>
                  <a:pt x="808" y="243"/>
                  <a:pt x="795" y="256"/>
                  <a:pt x="774" y="270"/>
                </a:cubicBezTo>
                <a:cubicBezTo>
                  <a:pt x="760" y="291"/>
                  <a:pt x="747" y="304"/>
                  <a:pt x="726" y="318"/>
                </a:cubicBezTo>
                <a:cubicBezTo>
                  <a:pt x="700" y="357"/>
                  <a:pt x="644" y="370"/>
                  <a:pt x="606" y="396"/>
                </a:cubicBezTo>
                <a:cubicBezTo>
                  <a:pt x="602" y="402"/>
                  <a:pt x="599" y="409"/>
                  <a:pt x="594" y="414"/>
                </a:cubicBezTo>
                <a:cubicBezTo>
                  <a:pt x="589" y="419"/>
                  <a:pt x="581" y="420"/>
                  <a:pt x="576" y="426"/>
                </a:cubicBezTo>
                <a:cubicBezTo>
                  <a:pt x="543" y="467"/>
                  <a:pt x="604" y="422"/>
                  <a:pt x="552" y="456"/>
                </a:cubicBezTo>
                <a:cubicBezTo>
                  <a:pt x="545" y="467"/>
                  <a:pt x="518" y="518"/>
                  <a:pt x="504" y="528"/>
                </a:cubicBezTo>
                <a:cubicBezTo>
                  <a:pt x="486" y="540"/>
                  <a:pt x="482" y="541"/>
                  <a:pt x="468" y="558"/>
                </a:cubicBezTo>
                <a:cubicBezTo>
                  <a:pt x="451" y="579"/>
                  <a:pt x="459" y="591"/>
                  <a:pt x="432" y="600"/>
                </a:cubicBezTo>
                <a:cubicBezTo>
                  <a:pt x="424" y="612"/>
                  <a:pt x="420" y="628"/>
                  <a:pt x="408" y="636"/>
                </a:cubicBezTo>
                <a:cubicBezTo>
                  <a:pt x="402" y="640"/>
                  <a:pt x="390" y="648"/>
                  <a:pt x="390" y="64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33480" y="3933720"/>
            <a:ext cx="2762280" cy="1629000"/>
          </a:xfrm>
          <a:custGeom>
            <a:avLst/>
            <a:gdLst/>
            <a:ahLst/>
            <a:rect l="l" t="t" r="r" b="b"/>
            <a:pathLst>
              <a:path w="1740" h="1026">
                <a:moveTo>
                  <a:pt x="0" y="0"/>
                </a:moveTo>
                <a:cubicBezTo>
                  <a:pt x="29" y="7"/>
                  <a:pt x="53" y="14"/>
                  <a:pt x="84" y="18"/>
                </a:cubicBezTo>
                <a:cubicBezTo>
                  <a:pt x="107" y="26"/>
                  <a:pt x="138" y="38"/>
                  <a:pt x="156" y="54"/>
                </a:cubicBezTo>
                <a:cubicBezTo>
                  <a:pt x="160" y="57"/>
                  <a:pt x="187" y="88"/>
                  <a:pt x="198" y="90"/>
                </a:cubicBezTo>
                <a:cubicBezTo>
                  <a:pt x="232" y="95"/>
                  <a:pt x="266" y="94"/>
                  <a:pt x="300" y="96"/>
                </a:cubicBezTo>
                <a:cubicBezTo>
                  <a:pt x="332" y="107"/>
                  <a:pt x="364" y="112"/>
                  <a:pt x="396" y="120"/>
                </a:cubicBezTo>
                <a:cubicBezTo>
                  <a:pt x="452" y="134"/>
                  <a:pt x="373" y="116"/>
                  <a:pt x="432" y="138"/>
                </a:cubicBezTo>
                <a:cubicBezTo>
                  <a:pt x="502" y="164"/>
                  <a:pt x="582" y="174"/>
                  <a:pt x="654" y="192"/>
                </a:cubicBezTo>
                <a:cubicBezTo>
                  <a:pt x="715" y="207"/>
                  <a:pt x="779" y="213"/>
                  <a:pt x="840" y="228"/>
                </a:cubicBezTo>
                <a:cubicBezTo>
                  <a:pt x="857" y="232"/>
                  <a:pt x="872" y="244"/>
                  <a:pt x="888" y="252"/>
                </a:cubicBezTo>
                <a:cubicBezTo>
                  <a:pt x="915" y="266"/>
                  <a:pt x="950" y="257"/>
                  <a:pt x="978" y="270"/>
                </a:cubicBezTo>
                <a:cubicBezTo>
                  <a:pt x="994" y="277"/>
                  <a:pt x="1009" y="290"/>
                  <a:pt x="1026" y="294"/>
                </a:cubicBezTo>
                <a:cubicBezTo>
                  <a:pt x="1042" y="298"/>
                  <a:pt x="1074" y="306"/>
                  <a:pt x="1074" y="306"/>
                </a:cubicBezTo>
                <a:cubicBezTo>
                  <a:pt x="1129" y="343"/>
                  <a:pt x="1044" y="289"/>
                  <a:pt x="1122" y="324"/>
                </a:cubicBezTo>
                <a:cubicBezTo>
                  <a:pt x="1166" y="344"/>
                  <a:pt x="1199" y="378"/>
                  <a:pt x="1248" y="390"/>
                </a:cubicBezTo>
                <a:cubicBezTo>
                  <a:pt x="1279" y="413"/>
                  <a:pt x="1308" y="429"/>
                  <a:pt x="1344" y="444"/>
                </a:cubicBezTo>
                <a:cubicBezTo>
                  <a:pt x="1399" y="499"/>
                  <a:pt x="1481" y="521"/>
                  <a:pt x="1536" y="576"/>
                </a:cubicBezTo>
                <a:cubicBezTo>
                  <a:pt x="1552" y="592"/>
                  <a:pt x="1568" y="608"/>
                  <a:pt x="1584" y="624"/>
                </a:cubicBezTo>
                <a:cubicBezTo>
                  <a:pt x="1592" y="632"/>
                  <a:pt x="1608" y="648"/>
                  <a:pt x="1608" y="648"/>
                </a:cubicBezTo>
                <a:cubicBezTo>
                  <a:pt x="1616" y="672"/>
                  <a:pt x="1629" y="682"/>
                  <a:pt x="1650" y="696"/>
                </a:cubicBezTo>
                <a:cubicBezTo>
                  <a:pt x="1657" y="725"/>
                  <a:pt x="1673" y="731"/>
                  <a:pt x="1686" y="756"/>
                </a:cubicBezTo>
                <a:cubicBezTo>
                  <a:pt x="1689" y="762"/>
                  <a:pt x="1689" y="768"/>
                  <a:pt x="1692" y="774"/>
                </a:cubicBezTo>
                <a:cubicBezTo>
                  <a:pt x="1697" y="784"/>
                  <a:pt x="1704" y="794"/>
                  <a:pt x="1710" y="804"/>
                </a:cubicBezTo>
                <a:cubicBezTo>
                  <a:pt x="1717" y="839"/>
                  <a:pt x="1731" y="871"/>
                  <a:pt x="1740" y="906"/>
                </a:cubicBezTo>
                <a:cubicBezTo>
                  <a:pt x="1734" y="963"/>
                  <a:pt x="1733" y="983"/>
                  <a:pt x="1674" y="996"/>
                </a:cubicBezTo>
                <a:cubicBezTo>
                  <a:pt x="1601" y="1012"/>
                  <a:pt x="1675" y="990"/>
                  <a:pt x="1602" y="1014"/>
                </a:cubicBezTo>
                <a:cubicBezTo>
                  <a:pt x="1596" y="1016"/>
                  <a:pt x="1584" y="1020"/>
                  <a:pt x="1584" y="1020"/>
                </a:cubicBezTo>
                <a:cubicBezTo>
                  <a:pt x="1409" y="1015"/>
                  <a:pt x="1430" y="1026"/>
                  <a:pt x="1332" y="1002"/>
                </a:cubicBezTo>
                <a:cubicBezTo>
                  <a:pt x="1302" y="982"/>
                  <a:pt x="1270" y="980"/>
                  <a:pt x="1236" y="972"/>
                </a:cubicBezTo>
                <a:cubicBezTo>
                  <a:pt x="1190" y="962"/>
                  <a:pt x="1247" y="972"/>
                  <a:pt x="1200" y="954"/>
                </a:cubicBezTo>
                <a:cubicBezTo>
                  <a:pt x="1175" y="945"/>
                  <a:pt x="1138" y="932"/>
                  <a:pt x="1110" y="930"/>
                </a:cubicBezTo>
                <a:cubicBezTo>
                  <a:pt x="1070" y="927"/>
                  <a:pt x="1030" y="926"/>
                  <a:pt x="990" y="924"/>
                </a:cubicBezTo>
                <a:cubicBezTo>
                  <a:pt x="956" y="917"/>
                  <a:pt x="922" y="907"/>
                  <a:pt x="888" y="900"/>
                </a:cubicBezTo>
                <a:cubicBezTo>
                  <a:pt x="863" y="887"/>
                  <a:pt x="835" y="882"/>
                  <a:pt x="810" y="870"/>
                </a:cubicBezTo>
                <a:cubicBezTo>
                  <a:pt x="773" y="851"/>
                  <a:pt x="736" y="832"/>
                  <a:pt x="696" y="822"/>
                </a:cubicBezTo>
                <a:cubicBezTo>
                  <a:pt x="654" y="794"/>
                  <a:pt x="707" y="826"/>
                  <a:pt x="648" y="804"/>
                </a:cubicBezTo>
                <a:cubicBezTo>
                  <a:pt x="641" y="801"/>
                  <a:pt x="637" y="795"/>
                  <a:pt x="630" y="792"/>
                </a:cubicBezTo>
                <a:cubicBezTo>
                  <a:pt x="600" y="779"/>
                  <a:pt x="566" y="770"/>
                  <a:pt x="534" y="762"/>
                </a:cubicBezTo>
                <a:cubicBezTo>
                  <a:pt x="520" y="752"/>
                  <a:pt x="508" y="738"/>
                  <a:pt x="492" y="732"/>
                </a:cubicBezTo>
                <a:cubicBezTo>
                  <a:pt x="465" y="721"/>
                  <a:pt x="436" y="721"/>
                  <a:pt x="408" y="714"/>
                </a:cubicBezTo>
                <a:cubicBezTo>
                  <a:pt x="376" y="706"/>
                  <a:pt x="359" y="690"/>
                  <a:pt x="324" y="69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1066680"/>
            <a:ext cx="838080" cy="685800"/>
          </a:xfrm>
          <a:prstGeom prst="wedgeRectCallout">
            <a:avLst>
              <a:gd name="adj1" fmla="val -25000"/>
              <a:gd name="adj2" fmla="val 11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czka n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809880"/>
            <a:ext cx="838080" cy="685800"/>
          </a:xfrm>
          <a:prstGeom prst="wedgeRectCallout">
            <a:avLst>
              <a:gd name="adj1" fmla="val -34092"/>
              <a:gd name="adj2" fmla="val 11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czka n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990720"/>
            <a:ext cx="39621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a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zł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eg bez p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ut z biegu po podan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ut po kozłowani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cz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lega podający piłk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1371600"/>
            <a:ext cx="800280" cy="114480"/>
          </a:xfrm>
          <a:custGeom>
            <a:avLst/>
            <a:gdLst/>
            <a:ahLst/>
            <a:rect l="l" t="t" r="r" b="b"/>
            <a:pathLst>
              <a:path w="504" h="72">
                <a:moveTo>
                  <a:pt x="0" y="56"/>
                </a:moveTo>
                <a:cubicBezTo>
                  <a:pt x="6" y="46"/>
                  <a:pt x="28" y="11"/>
                  <a:pt x="40" y="8"/>
                </a:cubicBezTo>
                <a:cubicBezTo>
                  <a:pt x="74" y="0"/>
                  <a:pt x="109" y="19"/>
                  <a:pt x="144" y="24"/>
                </a:cubicBezTo>
                <a:cubicBezTo>
                  <a:pt x="208" y="72"/>
                  <a:pt x="212" y="55"/>
                  <a:pt x="312" y="48"/>
                </a:cubicBezTo>
                <a:cubicBezTo>
                  <a:pt x="331" y="20"/>
                  <a:pt x="344" y="11"/>
                  <a:pt x="376" y="0"/>
                </a:cubicBezTo>
                <a:cubicBezTo>
                  <a:pt x="405" y="19"/>
                  <a:pt x="403" y="37"/>
                  <a:pt x="432" y="56"/>
                </a:cubicBezTo>
                <a:cubicBezTo>
                  <a:pt x="494" y="47"/>
                  <a:pt x="471" y="56"/>
                  <a:pt x="504" y="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209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5146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2666880"/>
            <a:ext cx="75960" cy="15264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2971800"/>
            <a:ext cx="15228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91440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zykładowe wykorzystanie testu na lekcji wychowania fizycznego klasie I szkoły gimnazjalnej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219320"/>
          <a:ext cx="8001000" cy="5283000"/>
        </p:xfrm>
        <a:graphic>
          <a:graphicData uri="http://schemas.openxmlformats.org/drawingml/2006/table">
            <a:tbl>
              <a:tblPr/>
              <a:tblGrid>
                <a:gridCol w="1189080"/>
                <a:gridCol w="6278760"/>
                <a:gridCol w="533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EDMIOT OCE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K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złow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złowanie ze zmianą ręki kozłującej i obserwacją pola gry, a nie piłki (kontrola nad piłką). Kozłowanie bez błędu piłki niesionej – płynność kozłowan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 późna zmiana ręki kozłującej, wzrok skierowany ciągle na piłkę – słaba kontrola nad piłką. Zamiast spychania piłki w kierunku parkietu – uderzanie w ni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k umiejętności kozłowania – brak kontroli nad piłk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wy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rzym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ania oburącz sprzed klatki piersiowej – silne, celne z właściwą pracą ramion. Chwyt piłki pewny połączony z zatrzymaniem na jedno tempo. Przejście do kozłowania bez błędu krokó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ania wykonane niechlujnie, słabo bez właściwej pracy ramion. Niepewny chwyt piłki. Zatrzymanie wykonane poprawnie. Przejście do kozłowania bez błędu krokó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ania niecelne, zła praca ramion. Brak zatrzymania na jedno tempo. Przejście do kozłowania z błędem krokó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y do kosza z bieg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prawej strony wykonany w rytmie PN-LN, wyrzut piłki z dominująca w końcowej fazie prawą ręką, rzut celny. Po rzucie lądowanie na obie stop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prawej strony wykonany w rytmie PN-LN, wyrzut piłki z dominująca w końcowej fazie prawą ręką, rzut niecelny. Po rzucie lądowanie na jedną stopę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prawej strony z błędem kroków lub złym rytmem LN-P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lewej strony wykonany w rytmie LN-PN, wyrzut piłki z dominująca w końcowej fazie lewą ręką, rzut celny. Po rzucie lądowanie na obie stop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lewej strony wykonany w rytmie LN-PN, wyrzut piłki z dominująca w końcowej fazie lewą ręką, rzut niecelny. Po rzucie lądowanie na jedną stopę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lewej strony z błędem kroków lub złym rytmem PN-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71680" y="787320"/>
          <a:ext cx="8001000" cy="4935600"/>
        </p:xfrm>
        <a:graphic>
          <a:graphicData uri="http://schemas.openxmlformats.org/drawingml/2006/table">
            <a:tbl>
              <a:tblPr/>
              <a:tblGrid>
                <a:gridCol w="1188720"/>
                <a:gridCol w="1135080"/>
                <a:gridCol w="1447920"/>
                <a:gridCol w="1905120"/>
                <a:gridCol w="1790640"/>
                <a:gridCol w="533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EDMIOT OCE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K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y do kosza po kozłowa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prawej strony wykonany w rytmie PN-LN, wyrzut piłki z dominująca w końcowej fazie prawą ręką, rzut celny. Po rzucie lądowanie na obie stop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prawej strony wykonany w rytmie PN-LN, wyrzut piłki z dominująca w końcowej fazie prawą ręką, rzut niecelny. Po rzucie lądowanie na jedną stopę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prawej strony z błędem kroków lub złym rytmem LN-P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lewej strony wykonany w rytmie LN-PN, wyrzut piłki z dominująca w końcowej fazie lewą ręką, rzut celny. Po rzucie lądowanie na obie stop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lewej strony wykonany w rytmie LN-PN, wyrzut piłki z dominująca w końcowej fazie lewą ręką, rzut niecelny. Po rzucie lądowanie na jedną stopę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ut z lewej strony z błędem kroków lub złym rytmem PN-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LA PUNKT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ość punkt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ują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dzo dob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b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statecz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puszczają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edostatecz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można oczywiście modyfikować i dostosowywać do własnych potrzeb. Przykładowo w klasie drugiej szkoły gimnazjalnej istnieje możliwość wykonanie przed rzutem manewru ścięcia czy też oddania rzutu osobistego bądź za trzy punkty. Dodatkowo oceniamy wtedy technikę i celność rzutu, a skalę punktową uaktualniamy o te właśnie elementy. Przy wyższym poziomie zaawansowania (klub sportowy) test może być wykonywany również na cz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racował : Bartłomiej Kindr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0-03-10T10:53:2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